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6A7-BDA8-4755-B4B3-B82501F1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E28-CAA4-4CB0-AD0F-F12B23E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064-1434-4C63-8C19-FB4D7773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6E0-5C1C-45EE-8294-5E5400EE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6D10-AB47-4954-B38F-624F98CF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8855-AE76-4579-93DC-9A3DBE91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DAF0-EAA4-4120-BF01-C9B6A45D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FC88-0208-4CA9-BBD3-B8B28D11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53B2-0004-4EB9-B56A-0ADE21DC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0D13-1565-4A4B-8D34-5DB71285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7B94-5F5E-4DA4-8E83-980A4F4C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69E-0D25-4381-9705-5C1DABF6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1BCF-8E2D-417A-8B63-6C07909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261D-D33D-4E1D-B8D4-C7194D65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ECC7-213B-46D7-9D14-D82B764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79A1-C4DF-4428-BBAD-A150E667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4BBF-6A86-4EB0-ADC6-3ED53D51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280-EE92-4778-95B6-C6DFED11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834-2C84-4D10-81E0-D9D057AE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519-B6ED-4F2E-A3ED-F0252D51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F49-58F9-4193-8031-C5506561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11F-CAA8-4A20-9C72-1B4E95BD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6BA-63BF-4DE2-AB68-FA5893B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70B-DC3E-41C8-B9B3-BEEEFDBF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4838-2846-4B04-A1B3-8C2C50E939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7BBE-70E5-4F6E-922A-E2202D9034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oes money make the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orld go around?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49388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t Portfolio Present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acqueline Kurtz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ssessments contd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the assessment information helps me and my students plan for upcoming activities in the uni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will use this information to make certain my activities will help students comprehend econom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feedback or additional ideas I would lik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ent Objectives—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cat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BE—8130.021—Analyze evolving economic systems and their impact on global marke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BE—8130.022—Describe the impact of global marketing on businesses in Americ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1</a:t>
            </a:r>
            <a:r>
              <a:rPr b="0" lang="en-US" sz="36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Century Skill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ormation and Media Literacy Skills—analyzing, accessing, managing, integrating, evaluating, and creating information in a variety of forms and medi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personal and Collaborative Skills—Demonstrating teamwork and leadership; adapting to varied roles and responsibilities, working productively with othe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ents will be able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725400" y="3018240"/>
            <a:ext cx="757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evolving economic systems and their impact on global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7560" y="42663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impact of global marketing on businesses in Ame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My Goals for the Cour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ways to get my students more excited about economics and how it impacts their liv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rn how to implement project-based learning into my lessons on a regular ba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rn about different kinds of technology my students and I can us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are ideas with other teache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velop a network of teachers who continuously learn and use technolog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Goals for My Student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learn about economics and how it impacts their liv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develop good 2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century skil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become more independent learner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become lifelong learner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Request for feedback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ll my students be excited about economi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re some ways I can intrigue the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 you have creative ideas on assessment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o you think of my essential ques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Unit Summary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economy is how a nation chooses to use its resources to produce and distribute goods and services to provide for the needs and wants of its peopl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ations are interdependent because they do not produce everything they ne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national trade is the exchange of goods and services between nation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ssential Question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6900" spc="-1" strike="noStrike">
                <a:solidFill>
                  <a:srgbClr val="000000"/>
                </a:solidFill>
                <a:latin typeface="Verdana"/>
              </a:rPr>
              <a:t>Does money make the world go around?</a:t>
            </a: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Unit Question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y does an increase in the price of oil cause the price of groceries to increase 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type of economic philosophy does a socialistic country hav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does an economy grow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re does globalization begi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y do we care about unemploymen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do we measure international trad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ontent Question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scarc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infrastructur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international trad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re the three significant trade agreements and alliances that foster free trad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globaliza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es a country ex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ontent Questions (contd)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does a country get a trade defici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is the trade deficit in the United Stat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are the three fundamental economic question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is capitalism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are the phases of a business cycl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is supply and demand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conomics in the World Around 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Verdana"/>
              </a:rPr>
              <a:t>What in the world does it mean and why do I care?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ssessments…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nk-pair-share with a neighbor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o you know about the business cycl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-W-L…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supply and deman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uging Student Needs Assess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urpose of the assess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determine what students already know about economic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What I want to learn from my student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 want to know what they know about economics and what they want to lear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How I have tried to promote higher-order thinking skill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 like to ask students why the price of oil influences the price of a hamburger at McDonald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7:02:20Z</dcterms:created>
  <dc:creator>Valued Gateway Client</dc:creator>
  <dc:description/>
  <dc:language>en-US</dc:language>
  <cp:lastModifiedBy>teacher</cp:lastModifiedBy>
  <dcterms:modified xsi:type="dcterms:W3CDTF">2009-04-10T19:50:51Z</dcterms:modified>
  <cp:revision>31</cp:revision>
  <dc:subject/>
  <dc:title>Economics</dc:title>
</cp:coreProperties>
</file>